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13F5-13E9-4A48-8714-1AF61A2C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5FE-65E5-47B8-A260-6EF2A31F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8F71-23FB-481B-A046-D405108E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D653-F40A-44DA-9D29-5E27DF70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AE86-B84A-424D-8AE9-A8C78AC9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73D6-57A7-478C-9635-AF5BC0E8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EC4B-EFE4-4DD2-B2CD-92087756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6332-9503-4AA2-AB35-A3F55D70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F7D3-8316-4454-931E-6832A9D5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BEF6-B998-4FEE-9098-192C66CB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E5F4-36A2-4C62-8F20-428CC6A5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CCCD-9443-42FF-B951-81EB3D60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A591-4B7C-4635-B21D-7029F97C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A9F8-A57E-4AF1-8853-0F1FD8E6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B04A-2148-4DB7-B006-3ECE1BFD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0083-26DE-49A2-92BE-A82EBDF1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2855-1BE8-4A88-9186-B1699E03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44F2A-DFB3-4CF9-81A3-F54F3CA4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5C7ED-9654-4988-B293-800361E8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B0331-31DB-4DF9-9082-D79D8865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4349E-E86A-490F-8075-FDECBE2C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B9937-A5DA-4642-BFAE-99614E40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35FA-E1AE-4CD6-8942-6B62235E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9D681-69BE-4DA0-A339-29CD9074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09D3F-A7BC-4DFA-A35D-BDCF19BC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9BF81-874F-4390-8F51-ADDF91FA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F8308-6677-4AB8-B850-24FE13B7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2F88C-D1D6-4DFD-BD4F-00831214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30E0A-731A-4880-9211-C3A697E8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4208F-055D-4407-BCD1-DA6B31A0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2D2A0-B5AE-4156-8ABE-E0E8ED95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BC227-8F7D-4AAF-B390-FDA01727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83F2F-D20D-42E6-AA47-3DA68CD8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999F-73F2-47B0-98FD-FD1B0351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7FF20-64E6-4B23-917F-4144C8A9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A8ABA-56C2-4BEF-A46D-1340F5EA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37811-5026-4CEA-933B-386F26D4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0FE6C-D803-464F-9E90-F08EA73C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E5B84-F1A5-46AD-9B3C-F3186D55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9B05D-EF04-4695-A443-79E175C2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0FD37-9999-4407-A115-3A035DB2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AFB0F-7B1C-4813-B5B6-468F222A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6542F-BFFD-4ECC-9C30-54BAD2F3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14F-6A0D-44CD-9548-7289C1F7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A51D-5BBC-4169-A2B3-5B8A7A41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333B-5BF3-46EF-8812-B699B008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BA9C-2FC5-4C84-AE73-C49633D2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D04-E3C0-4FCF-9611-E21C1203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8F38-2344-4F39-99B2-C82DBFE8B94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C596-DA67-41AF-B626-1263746400C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1C8E-2AA1-414B-AE8E-5E58CE8F066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37CC-9C15-46BF-9F37-4E17602408A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600" spc="-1" strike="noStrike">
                <a:solidFill>
                  <a:srgbClr val="e2d700"/>
                </a:solidFill>
                <a:latin typeface="Arial"/>
              </a:rPr>
              <a:t>РЕГУЛАЦИЈА ГЕНСКЕ АКТИВНОСТИ</a:t>
            </a:r>
            <a:r>
              <a:rPr b="1" lang="en-US" sz="5600" spc="-1" strike="noStrike">
                <a:solidFill>
                  <a:srgbClr val="e2d700"/>
                </a:solidFill>
                <a:latin typeface="Arial"/>
              </a:rPr>
              <a:t> КОД ЕУКАРИОТА</a:t>
            </a:r>
            <a:endParaRPr b="0" lang="en-US" sz="5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47560" y="4191120"/>
            <a:ext cx="655308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2d700"/>
                </a:solidFill>
                <a:latin typeface="Arial"/>
              </a:rPr>
              <a:t>Регулација транскрип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2d700"/>
                </a:solidFill>
                <a:latin typeface="Arial"/>
              </a:rPr>
              <a:t>Регулација трансла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Г) Метилација ДНК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360" y="312408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езивање метил груп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 цитозин (</a:t>
            </a:r>
            <a:r>
              <a:rPr b="0" i="1" lang="sr-CS" sz="1800" spc="-1" strike="noStrike">
                <a:solidFill>
                  <a:srgbClr val="000000"/>
                </a:solidFill>
                <a:latin typeface="Arial"/>
              </a:rPr>
              <a:t>С)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у промотору транскрипционе једин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речава транскрипциј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табилизује нуклеозомалну структуру чиме је отежано отварање хроматина за транскрипциј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8320" y="9903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Ензим одговоран за метилацију је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МЕТИЛАЗ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а метилисани </a:t>
            </a:r>
            <a:r>
              <a:rPr b="0" i="1" lang="sr-C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се у другом ланцу повезује са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нема промене нуклеотидне секвен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0000"/>
                </a:solidFill>
                <a:latin typeface="Arial"/>
              </a:rPr>
              <a:t>Деметилац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етилација је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новији еволутивни  механиза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контроле г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илација у соматској ћелији се наслеђује кроз деобе, па ћерке ћелије имају исте инактивисане гене као мајка ћелија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облик ћелијске мемориј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о шт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нема промене нуклеотидне секвенце, метилација је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ЕПИГЕНЕТ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Ч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КИ регулаторни механизам.</a:t>
            </a:r>
            <a:r>
              <a:rPr b="0" lang="sr-Latn-CS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5" descr="Gene regulation 16"/>
          <p:cNvPicPr/>
          <p:nvPr/>
        </p:nvPicPr>
        <p:blipFill>
          <a:blip r:embed="rId1"/>
          <a:stretch/>
        </p:blipFill>
        <p:spPr>
          <a:xfrm>
            <a:off x="533520" y="1295280"/>
            <a:ext cx="301608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Три феномена укључују метилацију као механизам активације гена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елијска диференциј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активација Х хромоз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еномски импринтин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1. Диференцијација ћелија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снива се на ћелијској меморији - ћерке ћелије имају исте искључене гене као мајка ћел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мерена је диференцијација ћелија у одређеном правц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2. Инактивација Х хромозома - Барово тело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4038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зна компензација гена код жена у односу на мушкар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леђује се кроз митотичке деоб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ханизам инактивације –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Х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С инактивациони цента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у њему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IST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г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267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IST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ген се на инактивном Х хромозому је активан - транскрибује се на инактиваторне РНК (Барово тело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IST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ген на активном Х хромозому је искључен метилациј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  мејоз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cc"/>
                </a:solidFill>
                <a:latin typeface="Arial"/>
              </a:rPr>
              <a:t>деметилациј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3. Геномски импринтинг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пољавање функције гена у зависности од ког родитеља је ген наслеђ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основи је метилација ДН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шава се током гаметогенез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 да буд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575"/>
              </a:spcBef>
              <a:buClr>
                <a:srgbClr val="009dd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cc"/>
                </a:solidFill>
                <a:latin typeface="Arial"/>
              </a:rPr>
              <a:t>генски импринтинг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575"/>
              </a:spcBef>
              <a:buClr>
                <a:srgbClr val="009dd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cc"/>
                </a:solidFill>
                <a:latin typeface="Arial"/>
              </a:rPr>
              <a:t>хромозомски импринтинг</a:t>
            </a:r>
            <a:r>
              <a:rPr b="0" lang="sr-CS" sz="23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Генски импринтинг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cc"/>
                </a:solidFill>
                <a:latin typeface="Arial"/>
              </a:rPr>
              <a:t>Матернал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јчин ген искључен, испољава се функција очевог г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cc"/>
                </a:solidFill>
                <a:latin typeface="Arial"/>
              </a:rPr>
              <a:t>Патернални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чев ген искључен, испољава се функција мајчиног ге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Хромозомски импринтинг -</a:t>
            </a:r>
            <a:r>
              <a:rPr b="1" lang="sr-CS" sz="3600" spc="-1" strike="noStrike">
                <a:solidFill>
                  <a:srgbClr val="0000cc"/>
                </a:solidFill>
                <a:latin typeface="Arial"/>
              </a:rPr>
              <a:t>Унипарентална дизомија (УД)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ео хромозомски пар у диплоидном сету води порекло од једног родитељ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тернална 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тернална 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злози настанка У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лођење дизомичног гамета нулизомичн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убљење хромозома из тризомичног зиг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двајање хромозома у монозомичном зиготу -изодизом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. Прадер Вилијев и Ангелманов синдром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2468160"/>
            <a:ext cx="8534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ро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икроделе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15q11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ромозом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еција очевог хромозома15 или матернална У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99"/>
                </a:solidFill>
                <a:latin typeface="Arial"/>
              </a:rPr>
              <a:t>Прадер Вилијев синд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еција мајчиног хромозома 15 или патернална УД - </a:t>
            </a:r>
            <a:r>
              <a:rPr b="1" lang="sr-CS" sz="2400" spc="-1" strike="noStrike">
                <a:solidFill>
                  <a:srgbClr val="ff3399"/>
                </a:solidFill>
                <a:latin typeface="Arial"/>
              </a:rPr>
              <a:t>Ангелманов синдр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800" spc="-1" strike="noStrike">
                <a:solidFill>
                  <a:srgbClr val="000000"/>
                </a:solidFill>
                <a:latin typeface="Arial"/>
              </a:rPr>
              <a:t>Прадер Вилијев синдром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495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зак ра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ле шаке и стоп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погонозом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нтална ретарда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Q 20-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8" descr="fig05-01"/>
          <p:cNvPicPr/>
          <p:nvPr/>
        </p:nvPicPr>
        <p:blipFill>
          <a:blip r:embed="rId1"/>
          <a:stretch/>
        </p:blipFill>
        <p:spPr>
          <a:xfrm>
            <a:off x="6095880" y="1905120"/>
            <a:ext cx="27622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800" spc="-1" strike="noStrike">
                <a:solidFill>
                  <a:srgbClr val="000000"/>
                </a:solidFill>
                <a:latin typeface="Arial"/>
              </a:rPr>
              <a:t>Ангелманов синдром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стој у развој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шкоћа у гово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перактивно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наглашен сме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нтална ретард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onstanti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6" descr="Audrey_Short"/>
          <p:cNvPicPr/>
          <p:nvPr/>
        </p:nvPicPr>
        <p:blipFill>
          <a:blip r:embed="rId1"/>
          <a:stretch/>
        </p:blipFill>
        <p:spPr>
          <a:xfrm>
            <a:off x="4191120" y="3686040"/>
            <a:ext cx="2752560" cy="3171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Karsen_Allman_-_Deletion"/>
          <p:cNvPicPr/>
          <p:nvPr/>
        </p:nvPicPr>
        <p:blipFill>
          <a:blip r:embed="rId2"/>
          <a:stretch/>
        </p:blipFill>
        <p:spPr>
          <a:xfrm>
            <a:off x="6091200" y="1447920"/>
            <a:ext cx="30528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руктурне и функционалне карактеристике ћелије зависе од протеина које та ћелија продукуј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теински састав ћелије зависи од транскрипције гена, транслације иРНК у протеине и постојаности самих проте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2. Транскрипциони ниво регулације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228960" y="2057040"/>
            <a:ext cx="434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ко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регулаторних секвенци гена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cis-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делујући елементи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мото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јачивачи (енхенсери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игушивачи (сајленсери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раничне секвенц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95680" y="2057040"/>
            <a:ext cx="46483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sr-C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Регулаторни протеини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rans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делујући елемeнти)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ључивачи транскрип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кључивачи транскрип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) Регулаторне секвенце гена: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Промотор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е састоји од: срж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ТАТ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кутије и стартне тачке транскрипц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Проксималне секвенце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спред промотора, на удаљености од око 200  нуклеотида, или у промотору (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AАT, GC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). Проксималне секвенце појачавају или ређе умањују интензитет транскрипц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Енхенсери и сајленсери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даљени више хи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а нуклеотида испод промотор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дисталне регулаторне секвенц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Транскрипциона јединица и регулаторне секвенце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35" name="Picture 6" descr="enhance1"/>
          <p:cNvPicPr/>
          <p:nvPr/>
        </p:nvPicPr>
        <p:blipFill>
          <a:blip r:embed="rId1"/>
          <a:stretch/>
        </p:blipFill>
        <p:spPr>
          <a:xfrm>
            <a:off x="228600" y="2057400"/>
            <a:ext cx="8534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Б) Регулаторни протеини: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гулаторни протеини повезани за енхенсере -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АКТИВАТО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гулаторни протеини повезани за сајленсере -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ИНХИБИТОРИ</a:t>
            </a:r>
            <a:r>
              <a:rPr b="0" lang="sr-CS" sz="2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РЕПРЕСО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28240" y="41148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сте регулаторних протеи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НК везујућ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 се везују једни за друг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 се везују за РНК полимераз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НТРОЛА ТРАНСКРИПЦИЈЕ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240" name="Object 5"/>
          <p:cNvGraphicFramePr/>
          <p:nvPr/>
        </p:nvGraphicFramePr>
        <p:xfrm>
          <a:off x="457200" y="2209680"/>
          <a:ext cx="8229600" cy="42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09680"/>
                    <a:ext cx="8229600" cy="42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Хормони као регулатори тран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рипције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роидни, тиреоидни, вит. А и Д - индуцибилни транскрипциони факто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cc"/>
                </a:solidFill>
                <a:latin typeface="Arial"/>
              </a:rPr>
              <a:t>Механизам дејства стероидних хормона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роидни хормон пролази мембрану ћелије и повезује се са интрацелуларним рецепторима, а затим тај комплекс ХОРМОН-РЕЦЕПТОР се повезује са енхенсером у транскрипционој јединици и укључи транскрипцију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осттранскрипциона регулација</a:t>
            </a:r>
            <a:r>
              <a:rPr b="0" lang="sr-CS" sz="44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ухват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трол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цесинга - алтернативни сплајсин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) транспорта РН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) стабилности РН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6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) Контрола процесинга и алтернативни сплајсинг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могућава да један ген детерминише  синтезу различитих протеи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5" descr="intron5"/>
          <p:cNvPicPr/>
          <p:nvPr/>
        </p:nvPicPr>
        <p:blipFill>
          <a:blip r:embed="rId1"/>
          <a:stretch/>
        </p:blipFill>
        <p:spPr>
          <a:xfrm>
            <a:off x="990720" y="3962520"/>
            <a:ext cx="666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704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Б) Контрола транспорта иРНК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мо 5% зрелих иРНК излази из једра и пређе у цитоплаз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НК које остају у једру</a:t>
            </a:r>
            <a:r>
              <a:rPr b="0" lang="sr-CS" sz="2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дРНК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лицистронске РНК једра)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чествују у регулацији процеса транскрип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В) Контрола стабилности РНК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виси од дужи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 ре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 негативне живе до 30 м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аткоживеће су и оне које носе </a:t>
            </a:r>
            <a:r>
              <a:rPr b="1" lang="sr-Latn-CS" sz="2400" spc="-1" strike="noStrike">
                <a:solidFill>
                  <a:srgbClr val="ff00ff"/>
                </a:solidFill>
                <a:latin typeface="Arial"/>
              </a:rPr>
              <a:t>A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оновљиве редоследе испре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 репа у кодирајућем регио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аткоживеће су и оне које носе </a:t>
            </a:r>
            <a:r>
              <a:rPr b="1" lang="sr-Latn-CS" sz="2400" spc="-1" strike="noStrike">
                <a:solidFill>
                  <a:srgbClr val="ff00ff"/>
                </a:solidFill>
                <a:latin typeface="Arial"/>
              </a:rPr>
              <a:t>A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новљиве редоследе у некодирајућем региону испре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 ре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ни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ији су продукти протеини присутни у свим ћелијама чине групу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нститутивних ген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(енгл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usekeeping ge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ке ћелије продукују већу количину специфичних протеина у одређеним ткивима и у одређеним периодима развој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ференцијална контрола експресије гена дешава се током различитих стадијум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Arial"/>
              </a:rPr>
              <a:t>РЕГУЛАЦИЈА ТРАНСЛАЦИЈЕ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гулација дужине живота иРН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гулација количине протеинске синтез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1. Регулација дужине живота иРНК</a:t>
            </a:r>
            <a:br>
              <a:rPr sz="4000"/>
            </a:b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имери: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cc"/>
                </a:solidFill>
                <a:latin typeface="Arial"/>
              </a:rPr>
              <a:t>Информозом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гулационим механизмима је онемогућена траслација иРНК из ооците док не одмакне сегментација зиг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 високој температури престаје синтеза већине протеина, али се активира синтеза протеина топлотног шока (који су одговорни за адаптацију ћелије на нове услове). После адаптације почиње синтеза уобичајених проте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2. Регулација количине протеинске синтезе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интеза глобинских ланаца према количини х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Посттранслациона регулациј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арни транслатати нису одмах биолошки функциона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тивација се врши модулацијом у структури протеинског лан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лавни механизми 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осфорил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ликозил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еоли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замин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рбоксил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лапање структуре помоћу шапер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меравање протеина на одредишта у ћелији или ван ње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Пример активације примарног протеина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интеза инсули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cc"/>
                </a:solidFill>
                <a:latin typeface="Arial"/>
              </a:rPr>
              <a:t>Препроинсулин</a:t>
            </a:r>
            <a:r>
              <a:rPr b="1" lang="sr-Latn-CS" sz="2600" spc="-1" strike="noStrike">
                <a:solidFill>
                  <a:srgbClr val="0000cc"/>
                </a:solidFill>
                <a:latin typeface="Arial"/>
              </a:rPr>
              <a:t>---</a:t>
            </a:r>
            <a:r>
              <a:rPr b="1" lang="sr-CS" sz="2600" spc="-1" strike="noStrike">
                <a:solidFill>
                  <a:srgbClr val="0000cc"/>
                </a:solidFill>
                <a:latin typeface="Arial"/>
              </a:rPr>
              <a:t>проинсулин</a:t>
            </a:r>
            <a:r>
              <a:rPr b="1" lang="sr-Latn-CS" sz="2600" spc="-1" strike="noStrike">
                <a:solidFill>
                  <a:srgbClr val="0000cc"/>
                </a:solidFill>
                <a:latin typeface="Arial"/>
              </a:rPr>
              <a:t>----</a:t>
            </a:r>
            <a:r>
              <a:rPr b="1" lang="sr-CS" sz="2600" spc="-1" strike="noStrike">
                <a:solidFill>
                  <a:srgbClr val="0000cc"/>
                </a:solidFill>
                <a:latin typeface="Arial"/>
              </a:rPr>
              <a:t>инсули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0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к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ак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Ц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Ц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ланци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нсулин се састоји од два ланц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ланац се састоји од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минокиселин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ланац се састоји од 30 аминокиселин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5" descr="human%20insulin"/>
          <p:cNvPicPr/>
          <p:nvPr/>
        </p:nvPicPr>
        <p:blipFill>
          <a:blip r:embed="rId1"/>
          <a:stretch/>
        </p:blipFill>
        <p:spPr>
          <a:xfrm>
            <a:off x="685800" y="1447920"/>
            <a:ext cx="6753240" cy="38383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6"/>
          <p:cNvSpPr/>
          <p:nvPr/>
        </p:nvSpPr>
        <p:spPr>
          <a:xfrm>
            <a:off x="2438280" y="1905120"/>
            <a:ext cx="3200400" cy="45972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c0066"/>
                </a:solidFill>
                <a:latin typeface="Arial Black"/>
              </a:rPr>
              <a:t>Хумани инсу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4343400" y="2666880"/>
            <a:ext cx="106668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cc0066"/>
                </a:solidFill>
                <a:latin typeface="Arial Black"/>
              </a:rPr>
              <a:t>Ланац 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4267080" y="3886200"/>
            <a:ext cx="106704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cc0066"/>
                </a:solidFill>
                <a:latin typeface="Arial Black"/>
              </a:rPr>
              <a:t>Ланац 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Велики број гена је активан само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ћелијама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поједин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тки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или у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одре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еном период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ма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развић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ff3399"/>
                </a:solidFill>
                <a:latin typeface="Arial"/>
              </a:rPr>
              <a:t>ЕПИГЕНЕТ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ИЧ</a:t>
            </a:r>
            <a:r>
              <a:rPr b="1" i="1" lang="sr-Latn-CS" sz="2800" spc="-1" strike="noStrike">
                <a:solidFill>
                  <a:srgbClr val="ff3399"/>
                </a:solidFill>
                <a:latin typeface="Arial"/>
              </a:rPr>
              <a:t>К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А РЕГУЛАЦИЈА ЕКСПРЕСИЈЕ</a:t>
            </a:r>
            <a:r>
              <a:rPr b="1" i="1" lang="sr-Latn-CS" sz="2800" spc="-1" strike="noStrike">
                <a:solidFill>
                  <a:srgbClr val="ff3399"/>
                </a:solidFill>
                <a:latin typeface="Arial"/>
              </a:rPr>
              <a:t> Г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ација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ранскрипције и транслације се одвијај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ханизмима тип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укљу</a:t>
            </a:r>
            <a:r>
              <a:rPr b="1" lang="sr-Latn-CS" sz="2800" spc="-1" strike="noStrike">
                <a:solidFill>
                  <a:srgbClr val="0000cc"/>
                </a:solidFill>
                <a:latin typeface="Arial"/>
              </a:rPr>
              <a:t>чи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cc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cc"/>
                </a:solidFill>
                <a:latin typeface="Arial"/>
              </a:rPr>
              <a:t>искљу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Регулација синтезе протеина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92" name="Object 8"/>
          <p:cNvGraphicFramePr/>
          <p:nvPr/>
        </p:nvGraphicFramePr>
        <p:xfrm>
          <a:off x="3048120" y="1143000"/>
          <a:ext cx="32032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143000"/>
                    <a:ext cx="32032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704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Arial"/>
              </a:rPr>
              <a:t>РЕГУЛАЦИЈА ТРАНСКРИПЦИЈЕ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етранскрипциони ни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ранскрипциони ни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осттранскрипциони ни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ЕТРАНСКРИПЦИОНИ НИВ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 декондензација хроматина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мплификација гена, генски реаранжмани, метилација ДНК</a:t>
            </a:r>
            <a:br>
              <a:rPr sz="3200"/>
            </a:b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5867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sr-CS" sz="2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Декондензација хроматин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стају хиперсензитивна мес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Хроматинска структура се своди  на ниво перл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ог влак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11" descr="Stages%20of%20gene%20activation"/>
          <p:cNvPicPr/>
          <p:nvPr/>
        </p:nvPicPr>
        <p:blipFill>
          <a:blip r:embed="rId1"/>
          <a:srcRect l="20521" t="14718" r="23366" b="0"/>
          <a:stretch/>
        </p:blipFill>
        <p:spPr>
          <a:xfrm>
            <a:off x="5638680" y="2362320"/>
            <a:ext cx="3429000" cy="37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Б) Амплификација ген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множавање броја гена - циљ је повећање количине продукта таквог гена ( нпр. у оогенез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могућено је акумулирање великих количина РНК које ће функционисати у младом ембрио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В) Реаранжирање ДНК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комбиновање генских сегмената пре његове транскрипције,  нпр. диференцијација ћелија у којима се продукују антит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ма потврде да се дешава у другим ћелијама сис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Korisnik</cp:lastModifiedBy>
  <dcterms:modified xsi:type="dcterms:W3CDTF">2018-09-04T09:59:39Z</dcterms:modified>
  <cp:revision>77</cp:revision>
  <dc:subject/>
  <dc:title>2-Humani genom</dc:title>
</cp:coreProperties>
</file>